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7C3D-84AA-4E88-B862-D4D87B01A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69B3-8345-4734-8B99-2960F9D0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8667-56FE-43F5-9C5F-261132837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1517-CAB0-4395-8948-81E1B53B9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6391-D400-4DEB-AF7D-115BA8AF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258A-5F87-4DFF-97EB-E1994D9F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AC74-B2F4-4611-8BF5-9CEC05F2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FACE-6C55-4D4C-8B71-E32080B5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4648-FC3D-4B92-B4F5-61333062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D6E1-36F4-4FA2-B2F0-20AF18DC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7498-6D8A-481F-9A46-A3FDB184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9D78-AA72-4AD2-B2DE-386586B3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53BA-6113-495C-9E83-7AC3A7E2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32F6-BBB5-4CA0-9D5E-17617102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06BF-40DA-4E80-8B35-52E86D34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723E-EA30-4191-845F-03029664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C61B-79C6-4C8D-8A7D-E226A947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F786-F7EA-489C-B2ED-AD52E8BB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020F-C079-44C2-9507-401F0336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98D7-5A4D-4B06-93C2-0562CBC1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00D3-C892-4029-A3C2-F749EC20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BD3A-8A2A-4376-998B-D2488150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9E20-0FB2-42B3-AF6F-A2CE2A8D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5BE3-0A19-477D-954A-BAE920E1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4393-789B-4FE2-A54C-45C280E4B2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0BD9-CD01-4482-A8C3-5EF5EF9BF9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lish-Fresh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ct. 5, 200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.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mov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ith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O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ir a lake in south america full of gold and jewels Incan Indian chieves honored there gods by throwing jewels into a lake and jumping in, coated with gold pow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:irrigate::manure: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ive:openly::jittery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mework-write one paragraph about the following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600200"/>
            <a:ext cx="7696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ools by the lake are described as “places of life because of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ter, and places of killing because of the water, too.” What is meant by this? How can it be bot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13:19:14Z</dcterms:created>
  <dc:creator>VMS</dc:creator>
  <dc:description/>
  <dc:language>en-US</dc:language>
  <cp:lastModifiedBy>VMS</cp:lastModifiedBy>
  <dcterms:modified xsi:type="dcterms:W3CDTF">2009-10-05T13:42:38Z</dcterms:modified>
  <cp:revision>1</cp:revision>
  <dc:subject/>
  <dc:title>English-Freshmen</dc:title>
</cp:coreProperties>
</file>